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0CF-E451-465A-8820-AD4C66D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590-B231-42FE-B606-6EE281F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1D0-02E6-42F5-B6A0-9496016D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BC6-ED90-4838-8F90-F596A965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232-CF55-4C6F-B930-3C1EEA3E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D60F-BEFB-41E0-8139-48D31F2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056-4114-412E-93DD-5EAE0A1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00C-1103-4A1E-969D-9BDB90F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BF7-6952-4C89-B2ED-72545A92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DAA8-B18A-4760-8F01-7E98C7B6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F9BC-AD06-4C11-A03A-0338765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BD0-9E28-4A8B-AEF8-EA75BC0B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880D-470B-419A-803D-AFEA867A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D49-F042-4167-831F-2043158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535-5C26-4E0E-89A2-F2BC285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CA2-CAED-4E92-B178-67C59B89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0E76-EA37-4CC0-B7B8-A8F9A312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44DF-911B-4A3C-B454-FED62E75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76CC-C97B-44D6-AC87-587C977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E6A9-8902-4ED0-BD7E-B05F30C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D508-27A7-45D3-BDE4-973CE7B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DFB0-B82D-4F05-B713-B5EAEB5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BE2-28F1-432C-967C-D0D9ADC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A59B-BD31-4068-9118-2E209972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1EEB-0428-4056-A8E9-FDC2C56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36D4-5B87-41F9-8C8E-62B04AC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AC01-B5DC-43CD-8E8A-997825B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176F-EC0A-407C-BA86-B5A48F2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8FEA-596B-427B-A1A7-DA870B64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ECBC-15CA-4592-B2FB-F74E9A13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0FE4-D5D7-449F-983A-D2C8D45D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3162-9184-4F06-B752-E6B7AEC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81DE-D073-4C89-A00B-7DD99072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919-2A2C-44F4-B448-B9BB9A0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43BA-F3C5-4C31-AF04-AB8D524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32C7-66FE-4CDC-9589-F7EBF03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9723-04FE-4BFB-BC18-7DB52B3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F7BE-7946-4D0E-A4D2-BE08B6C8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D715-953B-4650-B70B-60EFB96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2971-2E82-4A93-981F-375CAC2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037C-5317-4626-876E-2B20CEB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21BF-FFFB-4633-BD5D-69B9B086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282D-809E-4C3D-8D3F-0CCACB00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D064-4557-4C13-8258-78AC0DA5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975-8FE1-4D58-BA20-70F15EA2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2910-56A2-4CAA-8794-506361F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5683-8D80-45DA-AC8F-9549B31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2497-58DA-4F84-A2B5-C2CF740B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EE32-CF59-4FF5-B20B-CE6EE70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1979-A96B-46E0-A028-9E6B818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62E1-5E7A-43D2-A73C-57929DF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63A5-20D7-4450-A3CF-B43524B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EE0AE-93FB-4CA5-851F-135226B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84F0-727E-4604-9887-B0F06AC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66DC-2813-446F-8948-C67329F8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7FF-12D2-478F-A91D-A357E3E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3F82-2E18-4231-AE3C-2916CB07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B16-1AD4-4DEA-865F-8D66E3A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FF4-F0F0-47B3-BCE1-B898031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281-3063-4C03-A8B9-0AADED3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D38A-B2DB-48F8-B61C-79B3DA5236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843F-A42A-4ED4-A0D6-35E7D09A1E4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8F41-3EDD-4CBE-AB9A-99D11B5ABD5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BA3A-60C5-4E3F-8531-86B30EECC3F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7B2-91DB-4096-8D6B-1F6CD42583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915920"/>
            <a:ext cx="7772400" cy="1733400"/>
          </a:xfrm>
          <a:prstGeom prst="rect">
            <a:avLst/>
          </a:prstGeom>
          <a:solidFill>
            <a:srgbClr val="f2ced2"/>
          </a:solidFill>
          <a:ln w="42480">
            <a:solidFill>
              <a:srgbClr val="ffffff"/>
            </a:solidFill>
            <a:miter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Verdana"/>
              </a:rPr>
              <a:t>Музыкальная разминка  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564000" y="4005000"/>
            <a:ext cx="4930560" cy="1439640"/>
          </a:xfrm>
          <a:prstGeom prst="rect">
            <a:avLst/>
          </a:prstGeom>
          <a:solidFill>
            <a:srgbClr val="eaeaea"/>
          </a:solidFill>
          <a:ln w="9360">
            <a:solidFill>
              <a:srgbClr val="b45f07"/>
            </a:solidFill>
            <a:miter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1810"/>
                </a:solidFill>
                <a:latin typeface="Verdana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1810"/>
                </a:solidFill>
                <a:latin typeface="Verdana"/>
              </a:rPr>
              <a:t>преподаватель                                                                   МБУ ДО «Нюксенская ДМ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181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1b1810"/>
                </a:solidFill>
                <a:latin typeface="Verdana"/>
              </a:rPr>
              <a:t>Демина С.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59636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3794"/>
                </a:moveTo>
                <a:lnTo>
                  <a:pt x="17825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e69ca4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96b77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59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4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Что находится на прав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лавиатуре бая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НО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Управляющая кнопка: далее 4">
            <a:hlinkClick r:id="rId1" action="ppaction://hlinksldjump"/>
          </p:cNvPr>
          <p:cNvSpPr/>
          <p:nvPr/>
        </p:nvSpPr>
        <p:spPr>
          <a:xfrm>
            <a:off x="356400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далее 5">
            <a:hlinkClick r:id="rId2" action="ppaction://hlinksldjump"/>
          </p:cNvPr>
          <p:cNvSpPr/>
          <p:nvPr/>
        </p:nvSpPr>
        <p:spPr>
          <a:xfrm>
            <a:off x="356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далее 6">
            <a:hlinkClick r:id="rId3" action="ppaction://hlinksldjump"/>
          </p:cNvPr>
          <p:cNvSpPr/>
          <p:nvPr/>
        </p:nvSpPr>
        <p:spPr>
          <a:xfrm>
            <a:off x="35640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591732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Молния 5"/>
          <p:cNvSpPr/>
          <p:nvPr/>
        </p:nvSpPr>
        <p:spPr>
          <a:xfrm>
            <a:off x="1908000" y="1268280"/>
            <a:ext cx="4176720" cy="4537080"/>
          </a:xfrm>
          <a:prstGeom prst="lightningBolt">
            <a:avLst/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524720" y="537372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3280" y="529920"/>
            <a:ext cx="8183520" cy="57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3280" y="529920"/>
            <a:ext cx="8183520" cy="57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5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колько струн на виолончел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далее 4">
            <a:hlinkClick r:id="rId1" action="ppaction://hlinksldjump"/>
          </p:cNvPr>
          <p:cNvSpPr/>
          <p:nvPr/>
        </p:nvSpPr>
        <p:spPr>
          <a:xfrm>
            <a:off x="2484360" y="2276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Управляющая кнопка: далее 5">
            <a:hlinkClick r:id="rId2" action="ppaction://hlinksldjump"/>
          </p:cNvPr>
          <p:cNvSpPr/>
          <p:nvPr/>
        </p:nvSpPr>
        <p:spPr>
          <a:xfrm>
            <a:off x="2484360" y="3357720"/>
            <a:ext cx="1041480" cy="10411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алее 6">
            <a:hlinkClick r:id="rId3" action="ppaction://hlinksldjump"/>
          </p:cNvPr>
          <p:cNvSpPr/>
          <p:nvPr/>
        </p:nvSpPr>
        <p:spPr>
          <a:xfrm>
            <a:off x="2484360" y="443700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404640"/>
            <a:ext cx="8183520" cy="61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олния 6"/>
          <p:cNvSpPr/>
          <p:nvPr/>
        </p:nvSpPr>
        <p:spPr>
          <a:xfrm>
            <a:off x="2843280" y="1125360"/>
            <a:ext cx="3816360" cy="4104000"/>
          </a:xfrm>
          <a:prstGeom prst="lightningBol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10819"/>
                </a:moveTo>
                <a:lnTo>
                  <a:pt x="17806" y="3812"/>
                </a:lnTo>
                <a:lnTo>
                  <a:pt x="17806" y="17825"/>
                </a:lnTo>
                <a:close/>
              </a:path>
            </a:pathLst>
          </a:cu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6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ак называют человек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управляющего хором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оркестром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ПОЗИТ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РИЖЁ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далее 4">
            <a:hlinkClick r:id="rId1" action="ppaction://hlinksldjump"/>
          </p:cNvPr>
          <p:cNvSpPr/>
          <p:nvPr/>
        </p:nvSpPr>
        <p:spPr>
          <a:xfrm>
            <a:off x="4140360" y="3213000"/>
            <a:ext cx="1041120" cy="104292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далее 5">
            <a:hlinkClick r:id="rId2" action="ppaction://hlinksldjump"/>
          </p:cNvPr>
          <p:cNvSpPr/>
          <p:nvPr/>
        </p:nvSpPr>
        <p:spPr>
          <a:xfrm>
            <a:off x="4140360" y="4221000"/>
            <a:ext cx="1041120" cy="104328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45">
                <a:moveTo>
                  <a:pt x="0" y="0"/>
                </a:moveTo>
                <a:lnTo>
                  <a:pt x="21600" y="0"/>
                </a:lnTo>
                <a:lnTo>
                  <a:pt x="21600" y="21645"/>
                </a:lnTo>
                <a:lnTo>
                  <a:pt x="0" y="21645"/>
                </a:lnTo>
                <a:close/>
              </a:path>
              <a:path fill="lightenLess" w="21600" h="21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5">
                <a:moveTo>
                  <a:pt x="21600" y="0"/>
                </a:moveTo>
                <a:lnTo>
                  <a:pt x="21600" y="21645"/>
                </a:lnTo>
                <a:lnTo>
                  <a:pt x="20200" y="20245"/>
                </a:lnTo>
                <a:lnTo>
                  <a:pt x="20200" y="1400"/>
                </a:lnTo>
                <a:close/>
              </a:path>
              <a:path fill="darkenLess" w="21600" h="21645">
                <a:moveTo>
                  <a:pt x="21600" y="21645"/>
                </a:moveTo>
                <a:lnTo>
                  <a:pt x="0" y="21645"/>
                </a:lnTo>
                <a:lnTo>
                  <a:pt x="1400" y="20245"/>
                </a:lnTo>
                <a:lnTo>
                  <a:pt x="20200" y="20245"/>
                </a:lnTo>
                <a:close/>
              </a:path>
              <a:path fill="lighten" w="21600" h="21645">
                <a:moveTo>
                  <a:pt x="0" y="21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5"/>
                </a:lnTo>
                <a:close/>
              </a:path>
              <a:path fill="darken" w="21600" h="21645">
                <a:moveTo>
                  <a:pt x="3794" y="3816"/>
                </a:moveTo>
                <a:lnTo>
                  <a:pt x="17806" y="10822"/>
                </a:lnTo>
                <a:lnTo>
                  <a:pt x="3794" y="17829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алее 6">
            <a:hlinkClick r:id="rId3" action="ppaction://hlinksldjump"/>
          </p:cNvPr>
          <p:cNvSpPr/>
          <p:nvPr/>
        </p:nvSpPr>
        <p:spPr>
          <a:xfrm>
            <a:off x="4140360" y="5300640"/>
            <a:ext cx="1041120" cy="104292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58719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3280" y="529920"/>
            <a:ext cx="8183520" cy="549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олния 5"/>
          <p:cNvSpPr/>
          <p:nvPr/>
        </p:nvSpPr>
        <p:spPr>
          <a:xfrm>
            <a:off x="2340000" y="1125360"/>
            <a:ext cx="4032360" cy="4391280"/>
          </a:xfrm>
          <a:prstGeom prst="lightningBol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529920"/>
            <a:ext cx="8183520" cy="59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есяц 8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30280"/>
            <a:ext cx="8183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акую форму имеет балалай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правляющая кнопка: далее 5">
            <a:hlinkClick r:id="rId1" action="ppaction://hlinksldjump"/>
          </p:cNvPr>
          <p:cNvSpPr/>
          <p:nvPr/>
        </p:nvSpPr>
        <p:spPr>
          <a:xfrm>
            <a:off x="3708360" y="220500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правляющая кнопка: далее 6">
            <a:hlinkClick r:id="rId2" action="ppaction://hlinksldjump"/>
          </p:cNvPr>
          <p:cNvSpPr/>
          <p:nvPr/>
        </p:nvSpPr>
        <p:spPr>
          <a:xfrm>
            <a:off x="3708360" y="3284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правляющая кнопка: далее 7">
            <a:hlinkClick r:id="rId3" action="ppaction://hlinksldjump"/>
          </p:cNvPr>
          <p:cNvSpPr/>
          <p:nvPr/>
        </p:nvSpPr>
        <p:spPr>
          <a:xfrm>
            <a:off x="3708360" y="436572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530280"/>
            <a:ext cx="8183520" cy="58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7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ак называется самый большо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уховой инструмент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ЛЕЙ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667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далее 4">
            <a:hlinkClick r:id="rId1" action="ppaction://hlinksldjump"/>
          </p:cNvPr>
          <p:cNvSpPr/>
          <p:nvPr/>
        </p:nvSpPr>
        <p:spPr>
          <a:xfrm>
            <a:off x="320364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правляющая кнопка: далее 5">
            <a:hlinkClick r:id="rId2" action="ppaction://hlinksldjump"/>
          </p:cNvPr>
          <p:cNvSpPr/>
          <p:nvPr/>
        </p:nvSpPr>
        <p:spPr>
          <a:xfrm>
            <a:off x="3203640" y="3789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далее 6">
            <a:hlinkClick r:id="rId3" action="ppaction://hlinksldjump"/>
          </p:cNvPr>
          <p:cNvSpPr/>
          <p:nvPr/>
        </p:nvSpPr>
        <p:spPr>
          <a:xfrm>
            <a:off x="320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9640" y="549000"/>
            <a:ext cx="81835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Молния 5"/>
          <p:cNvSpPr/>
          <p:nvPr/>
        </p:nvSpPr>
        <p:spPr>
          <a:xfrm>
            <a:off x="2195640" y="1341360"/>
            <a:ext cx="4608360" cy="4248360"/>
          </a:xfrm>
          <a:prstGeom prst="lightningBolt">
            <a:avLst/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10800"/>
                </a:moveTo>
                <a:lnTo>
                  <a:pt x="17825" y="3794"/>
                </a:lnTo>
                <a:lnTo>
                  <a:pt x="17825" y="17806"/>
                </a:ln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03280" y="529920"/>
            <a:ext cx="8183520" cy="59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3794"/>
                </a:moveTo>
                <a:lnTo>
                  <a:pt x="17825" y="10800"/>
                </a:lnTo>
                <a:lnTo>
                  <a:pt x="3812" y="17806"/>
                </a:lnTo>
                <a:close/>
              </a:path>
            </a:pathLst>
          </a:cu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есяц 7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8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ие обозначения входят 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звание инстру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«фортепиано»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СТРО-МЕДЛЕН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ОМКО-ТИХ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ЕТЛО-ТЕМ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40720" y="5445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правляющая кнопка: далее 4">
            <a:hlinkClick r:id="rId1" action="ppaction://hlinksldjump"/>
          </p:cNvPr>
          <p:cNvSpPr/>
          <p:nvPr/>
        </p:nvSpPr>
        <p:spPr>
          <a:xfrm>
            <a:off x="5076720" y="530064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далее 5">
            <a:hlinkClick r:id="rId2" action="ppaction://hlinksldjump"/>
          </p:cNvPr>
          <p:cNvSpPr/>
          <p:nvPr/>
        </p:nvSpPr>
        <p:spPr>
          <a:xfrm>
            <a:off x="5076720" y="314172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далее 6"/>
          <p:cNvSpPr/>
          <p:nvPr/>
        </p:nvSpPr>
        <p:spPr>
          <a:xfrm>
            <a:off x="5076720" y="4221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3280" y="530280"/>
            <a:ext cx="8183520" cy="58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олния 5"/>
          <p:cNvSpPr/>
          <p:nvPr/>
        </p:nvSpPr>
        <p:spPr>
          <a:xfrm>
            <a:off x="1763640" y="1125360"/>
            <a:ext cx="4969080" cy="4607280"/>
          </a:xfrm>
          <a:prstGeom prst="lightningBol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373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9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ак называется электрон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фортепиа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ТЕЗАТ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ГРЫВ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ММОФ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40720" y="5445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правляющая кнопка: далее 6"/>
          <p:cNvSpPr/>
          <p:nvPr/>
        </p:nvSpPr>
        <p:spPr>
          <a:xfrm>
            <a:off x="457200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далее 7"/>
          <p:cNvSpPr/>
          <p:nvPr/>
        </p:nvSpPr>
        <p:spPr>
          <a:xfrm>
            <a:off x="4572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Управляющая кнопка: далее 8"/>
          <p:cNvSpPr/>
          <p:nvPr/>
        </p:nvSpPr>
        <p:spPr>
          <a:xfrm>
            <a:off x="4572000" y="479736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03280" y="529920"/>
            <a:ext cx="8183520" cy="63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Молния 5"/>
          <p:cNvSpPr/>
          <p:nvPr/>
        </p:nvSpPr>
        <p:spPr>
          <a:xfrm>
            <a:off x="2050920" y="1197000"/>
            <a:ext cx="4105440" cy="4464000"/>
          </a:xfrm>
          <a:prstGeom prst="lightningBolt">
            <a:avLst/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60159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667640" y="5373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c4e1f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03280" y="530280"/>
            <a:ext cx="8183520" cy="61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1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 называется ансамбл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остоящий из двух человек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УЭ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ВАРТ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И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3794"/>
                </a:moveTo>
                <a:lnTo>
                  <a:pt x="17825" y="10800"/>
                </a:lnTo>
                <a:lnTo>
                  <a:pt x="3812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Управляющая кнопка: далее 7"/>
          <p:cNvSpPr/>
          <p:nvPr/>
        </p:nvSpPr>
        <p:spPr>
          <a:xfrm>
            <a:off x="3276720" y="2637000"/>
            <a:ext cx="1041120" cy="104292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правляющая кнопка: далее 11"/>
          <p:cNvSpPr/>
          <p:nvPr/>
        </p:nvSpPr>
        <p:spPr>
          <a:xfrm>
            <a:off x="3276720" y="3645000"/>
            <a:ext cx="1041120" cy="104292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правляющая кнопка: далее 12"/>
          <p:cNvSpPr/>
          <p:nvPr/>
        </p:nvSpPr>
        <p:spPr>
          <a:xfrm>
            <a:off x="3276720" y="4724280"/>
            <a:ext cx="1041120" cy="1043280"/>
          </a:xfrm>
          <a:custGeom>
            <a:avLst/>
            <a:gdLst>
              <a:gd name="textAreaLeft" fmla="*/ 67320 w 1041120"/>
              <a:gd name="textAreaRight" fmla="*/ 973800 w 104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45">
                <a:moveTo>
                  <a:pt x="0" y="0"/>
                </a:moveTo>
                <a:lnTo>
                  <a:pt x="21600" y="0"/>
                </a:lnTo>
                <a:lnTo>
                  <a:pt x="21600" y="21645"/>
                </a:lnTo>
                <a:lnTo>
                  <a:pt x="0" y="21645"/>
                </a:lnTo>
                <a:close/>
              </a:path>
              <a:path fill="lightenLess" w="21600" h="21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5">
                <a:moveTo>
                  <a:pt x="21600" y="0"/>
                </a:moveTo>
                <a:lnTo>
                  <a:pt x="21600" y="21645"/>
                </a:lnTo>
                <a:lnTo>
                  <a:pt x="20200" y="20245"/>
                </a:lnTo>
                <a:lnTo>
                  <a:pt x="20200" y="1400"/>
                </a:lnTo>
                <a:close/>
              </a:path>
              <a:path fill="darkenLess" w="21600" h="21645">
                <a:moveTo>
                  <a:pt x="21600" y="21645"/>
                </a:moveTo>
                <a:lnTo>
                  <a:pt x="0" y="21645"/>
                </a:lnTo>
                <a:lnTo>
                  <a:pt x="1400" y="20245"/>
                </a:lnTo>
                <a:lnTo>
                  <a:pt x="20200" y="20245"/>
                </a:lnTo>
                <a:close/>
              </a:path>
              <a:path fill="lighten" w="21600" h="21645">
                <a:moveTo>
                  <a:pt x="0" y="21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5"/>
                </a:lnTo>
                <a:close/>
              </a:path>
              <a:path fill="darken" w="21600" h="21645">
                <a:moveTo>
                  <a:pt x="3794" y="3816"/>
                </a:moveTo>
                <a:lnTo>
                  <a:pt x="17806" y="10822"/>
                </a:lnTo>
                <a:lnTo>
                  <a:pt x="3794" y="17829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55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олния 6"/>
          <p:cNvSpPr/>
          <p:nvPr/>
        </p:nvSpPr>
        <p:spPr>
          <a:xfrm>
            <a:off x="2771640" y="1413000"/>
            <a:ext cx="4032360" cy="4824360"/>
          </a:xfrm>
          <a:prstGeom prst="lightningBolt">
            <a:avLst/>
          </a:prstGeom>
          <a:solidFill>
            <a:srgbClr val="1b587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667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3280" y="530280"/>
            <a:ext cx="8183520" cy="60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олния 5"/>
          <p:cNvSpPr/>
          <p:nvPr/>
        </p:nvSpPr>
        <p:spPr>
          <a:xfrm>
            <a:off x="2340000" y="1052640"/>
            <a:ext cx="3600360" cy="4537080"/>
          </a:xfrm>
          <a:prstGeom prst="lightningBolt">
            <a:avLst/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373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5280" y="620280"/>
            <a:ext cx="818352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380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476280"/>
            <a:ext cx="818352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ПРАВИЛЬНО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ВЫПОЛНИЛ(А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ВСЕ ЗАДАНИЯ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14425d"/>
                </a:solidFill>
                <a:latin typeface="Verdana"/>
              </a:rPr>
              <a:t>МУЗЫКАЛЬНОЙ РАЗМИНКИ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олнце 4"/>
          <p:cNvSpPr/>
          <p:nvPr/>
        </p:nvSpPr>
        <p:spPr>
          <a:xfrm>
            <a:off x="1116000" y="4797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42480">
            <a:solidFill>
              <a:srgbClr val="443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олнце 5"/>
          <p:cNvSpPr/>
          <p:nvPr/>
        </p:nvSpPr>
        <p:spPr>
          <a:xfrm>
            <a:off x="4427640" y="5516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лнце 6"/>
          <p:cNvSpPr/>
          <p:nvPr/>
        </p:nvSpPr>
        <p:spPr>
          <a:xfrm>
            <a:off x="7524720" y="4869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олнце 7"/>
          <p:cNvSpPr/>
          <p:nvPr/>
        </p:nvSpPr>
        <p:spPr>
          <a:xfrm>
            <a:off x="1187280" y="765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олнце 8"/>
          <p:cNvSpPr/>
          <p:nvPr/>
        </p:nvSpPr>
        <p:spPr>
          <a:xfrm>
            <a:off x="7164360" y="836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33360"/>
            <a:ext cx="82548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Месяц 4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67640" y="54450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076640"/>
            <a:ext cx="818352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К каким инструментам относ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омр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НН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УХОВ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ВИШН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596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dac19b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алее 5">
            <a:hlinkClick r:id="rId1" action="ppaction://hlinksldjump"/>
          </p:cNvPr>
          <p:cNvSpPr/>
          <p:nvPr/>
        </p:nvSpPr>
        <p:spPr>
          <a:xfrm>
            <a:off x="3924360" y="270828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далее 6">
            <a:hlinkClick r:id="rId2" action="ppaction://hlinksldjump"/>
          </p:cNvPr>
          <p:cNvSpPr/>
          <p:nvPr/>
        </p:nvSpPr>
        <p:spPr>
          <a:xfrm>
            <a:off x="3924360" y="371628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3808"/>
                </a:moveTo>
                <a:lnTo>
                  <a:pt x="17806" y="10815"/>
                </a:lnTo>
                <a:lnTo>
                  <a:pt x="3794" y="17821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далее 7">
            <a:hlinkClick r:id="rId3" action="ppaction://hlinksldjump"/>
          </p:cNvPr>
          <p:cNvSpPr/>
          <p:nvPr/>
        </p:nvSpPr>
        <p:spPr>
          <a:xfrm>
            <a:off x="3924360" y="479736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592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олния 5"/>
          <p:cNvSpPr/>
          <p:nvPr/>
        </p:nvSpPr>
        <p:spPr>
          <a:xfrm>
            <a:off x="2195640" y="1341360"/>
            <a:ext cx="4105080" cy="4680000"/>
          </a:xfrm>
          <a:prstGeom prst="lightningBolt">
            <a:avLst/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373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</a:pathLst>
          </a:cu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5454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30280"/>
            <a:ext cx="8183520" cy="56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Месяц 3"/>
          <p:cNvSpPr/>
          <p:nvPr/>
        </p:nvSpPr>
        <p:spPr>
          <a:xfrm rot="16200000">
            <a:off x="3881520" y="673200"/>
            <a:ext cx="1495440" cy="37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667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30280"/>
            <a:ext cx="8183520" cy="58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Вопрос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Чем играют на скрипк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КАЗ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ЫЧ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ЕЙ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667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Управляющая кнопка: далее 4">
            <a:hlinkClick r:id="rId1" action="ppaction://hlinksldjump"/>
          </p:cNvPr>
          <p:cNvSpPr/>
          <p:nvPr/>
        </p:nvSpPr>
        <p:spPr>
          <a:xfrm>
            <a:off x="3419640" y="220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f293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далее 5">
            <a:hlinkClick r:id="rId2" action="ppaction://hlinksldjump"/>
          </p:cNvPr>
          <p:cNvSpPr/>
          <p:nvPr/>
        </p:nvSpPr>
        <p:spPr>
          <a:xfrm>
            <a:off x="3419640" y="436572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далее 6">
            <a:hlinkClick r:id="rId3" action="ppaction://hlinksldjump"/>
          </p:cNvPr>
          <p:cNvSpPr/>
          <p:nvPr/>
        </p:nvSpPr>
        <p:spPr>
          <a:xfrm>
            <a:off x="3419640" y="3284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475920"/>
            <a:ext cx="8183520" cy="54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Молния 5"/>
          <p:cNvSpPr/>
          <p:nvPr/>
        </p:nvSpPr>
        <p:spPr>
          <a:xfrm>
            <a:off x="1835280" y="1413000"/>
            <a:ext cx="4608360" cy="4392360"/>
          </a:xfrm>
          <a:prstGeom prst="lightningBolt">
            <a:avLst/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667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9:42:32Z</dcterms:created>
  <dc:creator>Светлана</dc:creator>
  <dc:description/>
  <dc:language>en-US</dc:language>
  <cp:lastModifiedBy>Светлана</cp:lastModifiedBy>
  <dcterms:modified xsi:type="dcterms:W3CDTF">2020-03-23T22:28:53Z</dcterms:modified>
  <cp:revision>43</cp:revision>
  <dc:subject/>
  <dc:title>Музыкальные инструменты (вопросы для 2 класса)</dc:title>
</cp:coreProperties>
</file>